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C6C-739D-4CB6-B39F-5E16F51B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4CC-168C-4473-A036-994DFACB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024D-8506-44F5-A771-08F273B6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F25-6CA8-4673-B264-320F4294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36C8-9D03-44DB-8A42-131ABF36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FA1B-5A1E-4CB0-B0B7-B24D8CA6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FF8F-B082-40FD-ADAC-F257C049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12A6-7503-4F00-ABFF-585E8B2B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DCAC-14F1-4543-B943-79563540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D1E6-11E4-49D8-B3DA-59A509FE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EB6-3D61-447C-AA1A-D27B871A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872-6412-4B60-B6A6-B6519756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0719-6D9C-4FCA-92DB-C2980B4B3D7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w ani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tory cre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Updated resources\Part 2\JPEGS\new animation part2\Page_9.jpg"/>
          <p:cNvPicPr/>
          <p:nvPr/>
        </p:nvPicPr>
        <p:blipFill>
          <a:blip r:embed="rId1"/>
          <a:stretch/>
        </p:blipFill>
        <p:spPr>
          <a:xfrm>
            <a:off x="221472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pdated resources\Part 2\JPEGS\new animation part2\Page_1.jpg"/>
          <p:cNvPicPr/>
          <p:nvPr/>
        </p:nvPicPr>
        <p:blipFill>
          <a:blip r:embed="rId1"/>
          <a:stretch/>
        </p:blipFill>
        <p:spPr>
          <a:xfrm>
            <a:off x="2571840" y="0"/>
            <a:ext cx="486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Updated resources\Part 2\JPEGS\new animation part2\Page_2.jpg"/>
          <p:cNvPicPr/>
          <p:nvPr/>
        </p:nvPicPr>
        <p:blipFill>
          <a:blip r:embed="rId1"/>
          <a:stretch/>
        </p:blipFill>
        <p:spPr>
          <a:xfrm>
            <a:off x="264312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Updated resources\Part 2\JPEGS\new animation part2\Page_3.jpg"/>
          <p:cNvPicPr/>
          <p:nvPr/>
        </p:nvPicPr>
        <p:blipFill>
          <a:blip r:embed="rId1"/>
          <a:stretch/>
        </p:blipFill>
        <p:spPr>
          <a:xfrm>
            <a:off x="2571840" y="0"/>
            <a:ext cx="485784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Updated resources\Part 2\JPEGS\new animation part2\Page_4.jpg"/>
          <p:cNvPicPr/>
          <p:nvPr/>
        </p:nvPicPr>
        <p:blipFill>
          <a:blip r:embed="rId1"/>
          <a:stretch/>
        </p:blipFill>
        <p:spPr>
          <a:xfrm>
            <a:off x="2571840" y="7920"/>
            <a:ext cx="485784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Updated resources\Part 2\JPEGS\new animation part2\Page_5.jpg"/>
          <p:cNvPicPr/>
          <p:nvPr/>
        </p:nvPicPr>
        <p:blipFill>
          <a:blip r:embed="rId1"/>
          <a:stretch/>
        </p:blipFill>
        <p:spPr>
          <a:xfrm>
            <a:off x="257184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Updated resources\Part 2\JPEGS\new animation part2\Page_6.jpg"/>
          <p:cNvPicPr/>
          <p:nvPr/>
        </p:nvPicPr>
        <p:blipFill>
          <a:blip r:embed="rId1"/>
          <a:stretch/>
        </p:blipFill>
        <p:spPr>
          <a:xfrm>
            <a:off x="257184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Updated resources\Part 2\JPEGS\new animation part2\Page_7.jpg"/>
          <p:cNvPicPr/>
          <p:nvPr/>
        </p:nvPicPr>
        <p:blipFill>
          <a:blip r:embed="rId1"/>
          <a:stretch/>
        </p:blipFill>
        <p:spPr>
          <a:xfrm>
            <a:off x="2449440" y="-9360"/>
            <a:ext cx="4857840" cy="68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Updated resources\Part 2\JPEGS\new animation part2\Page_8.jpg"/>
          <p:cNvPicPr/>
          <p:nvPr/>
        </p:nvPicPr>
        <p:blipFill>
          <a:blip r:embed="rId1"/>
          <a:stretch/>
        </p:blipFill>
        <p:spPr>
          <a:xfrm>
            <a:off x="2357280" y="0"/>
            <a:ext cx="485784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0:36:34Z</dcterms:created>
  <dc:creator>kforbes</dc:creator>
  <dc:description/>
  <dc:language>en-US</dc:language>
  <cp:lastModifiedBy>kforbes</cp:lastModifiedBy>
  <dcterms:modified xsi:type="dcterms:W3CDTF">2008-10-31T11:55:03Z</dcterms:modified>
  <cp:revision>12</cp:revision>
  <dc:subject/>
  <dc:title>New animation</dc:title>
</cp:coreProperties>
</file>